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6DC7-BC19-4D0D-8601-FCF66376F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line in us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not been especially helpful in making decisions about specific instructional interventions or teaching appro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 often set low expectations for student, resulting in diminshed effort to teach students who earn low sc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, mentally retarded, specific subgroups…who are then disproportionately placed in special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rts have found IQ test discriminatory and mandated an end to their use (p. 241, Salvia, et 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ccultur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. 24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ndividual’s particular set of background experiences and opportunities to learn in both formal and informal educational sett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7CEC-FE5E-4CF9-B23D-78F4EF4F9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661A-B752-4A7E-90E3-C01E122C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D9A1-D22A-4017-95AC-D1012161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D181-91E3-4C1B-ADDA-A350FD0B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3DD2-4344-4FDC-9A18-0E975078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D363-FC1F-4A34-9ED3-117B4864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CF8B-2BA9-4532-91FD-4B12EAFA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54DF-68A2-4F24-AAB4-7B2A5B6A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A55F-1625-4031-B11D-7ED18A4F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7797-3C13-4F79-97BC-6BC409E1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AD2A-7EF3-4A42-8AAB-793782DC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5BF4-357B-4A3D-B271-6CBD0B5F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2204-1AF1-4DE7-9206-F7728C54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9416-9122-4A1E-A1FE-B139057B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5F70-6F92-40F3-AA5A-A90CB0C1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3262-6C96-497A-BF5B-35655FE4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E08E-072D-42D0-A186-DC44F2FA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32D7-5F2C-4216-9D4A-558A445F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4F02-D0B3-4BE6-9139-E5264F87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B99A-0C69-4D98-9C3B-5DBA21A2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BC25-BF81-4257-89F2-84982C31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7943-3926-4EAE-AC71-E89D5265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4B71-057B-461D-97D9-A046DA61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7A1C-B0C2-4188-AF53-3F6CA908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30A2-2D0F-4AB3-94C8-3FB4BBE8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9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noFill/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a1f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a1f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a1f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94A3-A7A6-4A74-B4CD-DCED1C9DE3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9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noFill/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a1f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a1f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a1f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1D6E-0AA0-4497-B1A5-B5CD9BC7F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534160" cy="16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Q Testing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eb Quest Project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14040" y="335268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ta Achampong, Marisol Craig, Christy Gruver, Patty Hillery, Lori Stol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mmer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McNiff – ED 5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iqtestinggroup"/>
          <p:cNvPicPr/>
          <p:nvPr/>
        </p:nvPicPr>
        <p:blipFill>
          <a:blip r:embed="rId1"/>
          <a:stretch/>
        </p:blipFill>
        <p:spPr>
          <a:xfrm rot="20880600">
            <a:off x="1198080" y="515880"/>
            <a:ext cx="14479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llenge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Q Test Biases VS IQ Test 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ersonality-and-aptitude-career-tests.com/iq-test-biase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∙tel∙li∙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ferred ability; a term or construct used to explain differences in present behavior and to predict difference in future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IQ Test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Q testing? What does it look like? How is it administered? What does it measure exactly and based on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ly Used IQ Te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676520"/>
            <a:ext cx="8381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ufman Assessment Batter for Children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is-Lennon School Ability Test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body Picture Vocabulary Test-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ford-Binet Intelligence Scale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chsler Intelligence Scale for Children-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cock-Johnson III Tests of Cognitive 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efit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.Q.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prsg.education.wisc.edu/gifted/iq_testing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efit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efit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llenge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Unconscious Bias of Intelligence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outhernct.edu/organizations/hcr/2001/nonfiction/testbia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llenge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7:52:31Z</dcterms:created>
  <dc:creator>Andrew</dc:creator>
  <dc:description/>
  <dc:language>en-US</dc:language>
  <cp:lastModifiedBy>LORI</cp:lastModifiedBy>
  <dcterms:modified xsi:type="dcterms:W3CDTF">2010-05-30T14:42:54Z</dcterms:modified>
  <cp:revision>13</cp:revision>
  <dc:subject/>
  <dc:title>Published Test Instrument Critique WIAT</dc:title>
</cp:coreProperties>
</file>